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3B9C-11C9-4DBE-8D9A-C963BFB2C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8C05-1B4B-49E2-BF1F-A6260FCE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46A5-BA82-41AF-8668-72AEFC278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318C-0D51-4EA1-BE6B-88667A0EC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797E-94D0-4DC4-861B-33669B7A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84DA-E3E8-4D6B-9367-83A2068B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1379-97B4-421E-B923-5E77B511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C1A8-BBD6-4F72-AF64-A431D40E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7AFC-B5AF-43BC-971F-67BD5A78E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44EC-18C7-4BFD-A0FD-94EC8F5E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234C-86A3-4AA6-96B0-42EA38E4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2795-A678-4A55-A8BB-BFA4FD5A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E55F-20C4-4BDC-81E1-3F6F60690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69696"/>
                </a:solidFill>
                <a:latin typeface="Arial"/>
              </a:rPr>
              <a:t>Me llamo __________ Clase 6NH(602) La fecha es el 6 de diciembre del 20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0000"/>
                </a:solidFill>
                <a:latin typeface="Arial"/>
              </a:rPr>
              <a:t>Propósito # 21:</a:t>
            </a:r>
            <a:r>
              <a:rPr b="0" lang="es-ES_tradnl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uántos cuartos tiene tu cas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respo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Tienes una casa o un apartamen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uántos cuartos tiene en tu cas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uáles son los cuartos de tu cas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uál es tu cuarto favorito? ¿Por qué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6868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Repaso del Vocabulario de la com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343400" y="2514600"/>
            <a:ext cx="2695680" cy="20559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5867280" y="988920"/>
            <a:ext cx="27432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050"/>
                </a:solidFill>
                <a:latin typeface="Arial"/>
              </a:rPr>
              <a:t>El desayu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5638680" y="2285640"/>
            <a:ext cx="0" cy="762120"/>
          </a:xfrm>
          <a:prstGeom prst="line">
            <a:avLst/>
          </a:prstGeom>
          <a:ln w="38160">
            <a:solidFill>
              <a:srgbClr val="fffff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952880" y="1752480"/>
            <a:ext cx="14479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7"/>
                </a:solidFill>
                <a:latin typeface="Arial"/>
              </a:rPr>
              <a:t>hue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6553080" y="2819520"/>
            <a:ext cx="685800" cy="4572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95880" y="3657600"/>
            <a:ext cx="99072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4191120" y="3962520"/>
            <a:ext cx="914400" cy="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086600" y="2362320"/>
            <a:ext cx="175248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-188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P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(tosta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010280" y="3427560"/>
            <a:ext cx="213372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alchich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124080" y="3657600"/>
            <a:ext cx="14479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toc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80880" y="2895480"/>
            <a:ext cx="897120" cy="1295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752480" y="2562120"/>
            <a:ext cx="1135080" cy="1704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80880" y="5181480"/>
            <a:ext cx="1143000" cy="857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2133720" y="5029200"/>
            <a:ext cx="1247760" cy="1295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3886200" y="4572000"/>
            <a:ext cx="1373040" cy="1657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5791320" y="5181480"/>
            <a:ext cx="1295280" cy="1143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flipV="1">
            <a:off x="6477120" y="4952880"/>
            <a:ext cx="228600" cy="4572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715000" y="4570560"/>
            <a:ext cx="236232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Arial"/>
              </a:rPr>
              <a:t>mantequi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8"/>
          <a:stretch/>
        </p:blipFill>
        <p:spPr>
          <a:xfrm>
            <a:off x="7620120" y="4648320"/>
            <a:ext cx="992160" cy="1638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5791320" y="6323040"/>
            <a:ext cx="129528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anqu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543800" y="6246720"/>
            <a:ext cx="11430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6600"/>
                </a:solidFill>
                <a:latin typeface="Arial"/>
              </a:rPr>
              <a:t>si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191120" y="6248520"/>
            <a:ext cx="129528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v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209680" y="6246720"/>
            <a:ext cx="12193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e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3520" y="6019920"/>
            <a:ext cx="60948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905120" y="4343400"/>
            <a:ext cx="9144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f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4191120"/>
            <a:ext cx="198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Ju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(de naranj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9"/>
          <a:stretch/>
        </p:blipFill>
        <p:spPr>
          <a:xfrm>
            <a:off x="0" y="855720"/>
            <a:ext cx="1905120" cy="13539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1066680" y="2133720"/>
            <a:ext cx="121932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ques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0"/>
          <a:stretch/>
        </p:blipFill>
        <p:spPr>
          <a:xfrm>
            <a:off x="2057400" y="1143000"/>
            <a:ext cx="1447920" cy="10843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3276720" y="2057400"/>
            <a:ext cx="121896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jam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Repaso de vocabul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960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El almuer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1523880" cy="13208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410000" y="1676520"/>
            <a:ext cx="1457280" cy="1457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630520" y="1600200"/>
            <a:ext cx="1103400" cy="1371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457200" y="4048200"/>
            <a:ext cx="1676520" cy="15145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2362320" y="3886200"/>
            <a:ext cx="2286000" cy="1981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7238880" y="3124080"/>
            <a:ext cx="1581120" cy="1581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6324480" y="4800600"/>
            <a:ext cx="895320" cy="1600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8"/>
          <a:stretch/>
        </p:blipFill>
        <p:spPr>
          <a:xfrm>
            <a:off x="5900760" y="990720"/>
            <a:ext cx="1719360" cy="1231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9"/>
          <a:stretch/>
        </p:blipFill>
        <p:spPr>
          <a:xfrm>
            <a:off x="5181480" y="3733920"/>
            <a:ext cx="900360" cy="1419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152280" y="3048120"/>
            <a:ext cx="236232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amburgu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666880" y="2971800"/>
            <a:ext cx="12193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a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ri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0" y="3122640"/>
            <a:ext cx="121932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iz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543800" y="1598760"/>
            <a:ext cx="167652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ándw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934320" y="2133720"/>
            <a:ext cx="220968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mpared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172200" y="2513160"/>
            <a:ext cx="190512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ocadi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924680" y="990720"/>
            <a:ext cx="121932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5638680"/>
            <a:ext cx="152388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sal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971800" y="5865840"/>
            <a:ext cx="106668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181480" y="5105520"/>
            <a:ext cx="106704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ec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324480" y="6399360"/>
            <a:ext cx="121932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315200" y="4646520"/>
            <a:ext cx="16765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Gaseo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391520" y="5103720"/>
            <a:ext cx="121896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315200" y="5484960"/>
            <a:ext cx="175248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fres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Repaso de vocabul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3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La c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1857600" cy="1533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362320" y="1600200"/>
            <a:ext cx="1549440" cy="1724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191120" y="1676520"/>
            <a:ext cx="2562120" cy="1780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398520" y="4419720"/>
            <a:ext cx="1506600" cy="1676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2209680" y="3981600"/>
            <a:ext cx="1371600" cy="1027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4114800" y="4191120"/>
            <a:ext cx="1482840" cy="1600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3274920"/>
            <a:ext cx="9907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l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362320" y="3427560"/>
            <a:ext cx="243828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istec/ bift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257800" y="3427560"/>
            <a:ext cx="1523880" cy="61092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es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086600" y="3198960"/>
            <a:ext cx="190512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maró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7086600" y="1447920"/>
            <a:ext cx="1905120" cy="1743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228600" y="6094440"/>
            <a:ext cx="175248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hulet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362320" y="5865840"/>
            <a:ext cx="190476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eget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419720" y="5867280"/>
            <a:ext cx="1371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ide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8"/>
          <a:stretch/>
        </p:blipFill>
        <p:spPr>
          <a:xfrm>
            <a:off x="5715000" y="40672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9"/>
          <a:stretch/>
        </p:blipFill>
        <p:spPr>
          <a:xfrm>
            <a:off x="7315200" y="4280040"/>
            <a:ext cx="1828800" cy="13064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5867280" y="5713560"/>
            <a:ext cx="1371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rro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543800" y="5560920"/>
            <a:ext cx="1371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rij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7162920" y="6018120"/>
            <a:ext cx="198108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abichue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0"/>
          <a:stretch/>
        </p:blipFill>
        <p:spPr>
          <a:xfrm>
            <a:off x="2743200" y="4986360"/>
            <a:ext cx="1295280" cy="957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2362320" y="6246720"/>
            <a:ext cx="190476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egumbr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486400" y="1905120"/>
            <a:ext cx="1752480" cy="30456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6248160" y="1523880"/>
            <a:ext cx="75960" cy="53352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029200" y="1143000"/>
            <a:ext cx="220968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cccc"/>
                </a:solidFill>
                <a:latin typeface="Arial"/>
              </a:rPr>
              <a:t>Los maris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990720" y="4114800"/>
            <a:ext cx="304560" cy="457200"/>
          </a:xfrm>
          <a:prstGeom prst="line">
            <a:avLst/>
          </a:prstGeom>
          <a:ln w="38160">
            <a:solidFill>
              <a:srgbClr val="fffff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47920" y="3352680"/>
            <a:ext cx="152280" cy="381240"/>
          </a:xfrm>
          <a:prstGeom prst="line">
            <a:avLst/>
          </a:prstGeom>
          <a:ln w="38160">
            <a:solidFill>
              <a:srgbClr val="fffff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980720" y="3429000"/>
            <a:ext cx="381240" cy="304920"/>
          </a:xfrm>
          <a:prstGeom prst="line">
            <a:avLst/>
          </a:prstGeom>
          <a:ln w="38160">
            <a:solidFill>
              <a:srgbClr val="fffff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09480" y="3732120"/>
            <a:ext cx="19051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7"/>
                </a:solidFill>
                <a:latin typeface="Arial"/>
              </a:rPr>
              <a:t>Las car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Tarea # 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jercicio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. R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20:25:46Z</dcterms:created>
  <dc:creator>Helen Zumaeta</dc:creator>
  <dc:description/>
  <dc:language>en-US</dc:language>
  <cp:lastModifiedBy>Helen Zumaeta</cp:lastModifiedBy>
  <dcterms:modified xsi:type="dcterms:W3CDTF">2012-12-09T05:14:15Z</dcterms:modified>
  <cp:revision>6</cp:revision>
  <dc:subject/>
  <dc:title>Me llamo __________ Clase 6NH(602) La fecha es el 5 de diciembre del 2012</dc:title>
</cp:coreProperties>
</file>